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gif" ContentType="image/gif"/>
  <Override PartName="/ppt/media/image26.wmf" ContentType="image/x-wmf"/>
  <Override PartName="/ppt/media/image15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2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559C-B107-41AA-87F8-63DC4F592A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slide" Target="../slides/slide9.xml"/><Relationship Id="rId3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РУГЛЫ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/пресс-конференци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геометрии в 11 классе . Автор: Михайлова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МОУ «СОШ № 15 п. Березайка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C84D-F36C-4872-9414-75B711D0D0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, творческой деятельности, ре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амостоятельности, активности, культуры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A71E-F825-4AAA-A826-03768AD06C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линдром здесь зовусь, друз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ухне встретите ме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–термос, вкусный торт и свеч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трюля тёплая на пе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E2DF-7600-4699-9EBC-99D1770A348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Р,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глобус, апельсин и мя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круглый шар, я даже чай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DC55-B864-4D7C-BE88-E9514D914D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b3579"/>
                </a:solidFill>
                <a:latin typeface="Calibri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ёшь меня легко в в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ёлке, в шляпке у гри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конус не стоит в ст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ковка – это тоже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3A06-DBCC-4E92-A0D9-4783642709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Calibri"/>
              </a:rPr>
              <a:t>УСЕЧЁННЫЙ 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дская труба и маяк освещённый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 совсем не простой – усечённы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CDD5-F413-407C-A06C-1296B2F736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задача не для робки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 упаковать в коробк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ен плотно он вой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пути не растрясти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8FD1-8DA6-4B20-AFF3-4254244842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итоге? Посмотр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 – коробка, мяч –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8669-9053-4304-80D4-2406EE68FB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ая литература и Интернет –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/0/26/108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IR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YnZXG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0E04-3AEC-45DA-9AD4-EC9B3B3D7B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543-6B89-4FAC-85B3-DD4F1355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250-7260-48E7-8E87-607B61B9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48C-B53D-4467-985C-CF924907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BB0-D923-4AA5-A89D-4F38448B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EC39-4A8A-4D6D-B449-2468AEF1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81B4-B675-4932-842B-BA4FECA2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2B86-C286-40EA-8DAB-BAD0F030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E728-702D-47B6-97CC-3DBE178F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0133-4C12-46DC-9DED-8E90ACBB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E00E-E73F-47BF-A69E-E680BA99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E61C-71C7-42D9-A998-A1973CEC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7F3-14DE-444F-856A-A3D7DCA9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D645-6F2C-4185-B8F5-652EAB63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45CD-C4CC-4B28-9B6E-B7A2D341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8310-F29B-403B-A795-0A1B5335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5206-B7C1-4A7A-891E-7F508D1E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DAC8-BE33-446F-B9A2-0E466516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6B0-3BE3-435F-BDFC-0FFBAB9E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F78-A75D-4BEB-B7E7-C52FCB4D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115-F4A1-4145-8B7A-3DF70A98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CA6-3858-4F49-8AB7-19E9C405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1BA-57B9-42A4-8A5B-BD4FF9E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A8F-3B95-4E19-B2B6-5EB3A24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0D6-3F42-481F-804F-53A8D8D5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D0CD-D47E-4B70-8D6E-A88B50EFA8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070A-FC7D-4B56-B087-8B51F7641D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adugavd.ru/d/63369/d/1409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media.meta.ua/files/pic/0/26/108/mIR6YnZXGo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g-fotki.yandex.ru/get/3301/ostroum-igor.0/0_2586_82bc2d69_L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skystvo.ru/wp-content/24.jpg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peky.ru/tovary/kastruli/p_k_7.jpg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iskystvo.ru/wp-content/26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s57.radikal.ru/i155/0810/61/a5647e91633f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cook.freecopy.su/cookbook/pictures/4306.jpg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zavodplastmas.kiev.ua/foto/26v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mega.km.ru/bes_2004/DATA/PREV1998/k_320i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kinoforum.my1.ru/_fr/3/7676031.jp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hyperlink" Target="http://www.board74.ru/articles/geometry/tcone.gif" TargetMode="External"/><Relationship Id="rId5" Type="http://schemas.openxmlformats.org/officeDocument/2006/relationships/image" Target="../media/image24.png"/><Relationship Id="rId6" Type="http://schemas.openxmlformats.org/officeDocument/2006/relationships/hyperlink" Target="http://flamber.ru/files/photos/1152431728/1181070512_o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hyperlink" Target="http://media.meta.ua/files/pic/0/26/108/mIR6YnZXGo.jpg" TargetMode="External"/><Relationship Id="rId32" Type="http://schemas.openxmlformats.org/officeDocument/2006/relationships/hyperlink" Target="http://media.meta.ua/files/pic/0/26/108/mIR6YnZXGo.jpg" TargetMode="External"/><Relationship Id="rId33" Type="http://schemas.openxmlformats.org/officeDocument/2006/relationships/hyperlink" Target="http://media.meta.ua/files/pic/0/26/108/mIR6YnZXGo.jpg" TargetMode="External"/><Relationship Id="rId34" Type="http://schemas.openxmlformats.org/officeDocument/2006/relationships/hyperlink" Target="http://media.meta.ua/files/pic/0/26/108/mIR6YnZXGo.jpg" TargetMode="External"/><Relationship Id="rId35" Type="http://schemas.openxmlformats.org/officeDocument/2006/relationships/hyperlink" Target="http://media.meta.ua/files/pic/0/26/108/mIR6YnZXGo.jpg" TargetMode="External"/><Relationship Id="rId36" Type="http://schemas.openxmlformats.org/officeDocument/2006/relationships/hyperlink" Target="http://media.meta.ua/files/pic/0/26/108/mIR6YnZXGo.jpg" TargetMode="Externa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2843280" y="714240"/>
            <a:ext cx="36576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ГЛЫЕ ТЕ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/пресс-конференция/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3419640" y="2781360"/>
            <a:ext cx="2266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ЛИНД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У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5857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к уроку геометрии в 11 классе . Автор: Михайлова 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МОУ «СОШ № 15 п. Березайка Тверской о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логического мышления, творческой деятельности,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, активности, культуры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85840" y="334800"/>
            <a:ext cx="7572240" cy="145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749600" y="407880"/>
            <a:ext cx="48463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1714680" y="4929120"/>
                <a:ext cx="186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бо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6"/>
              <p:cNvSpPr txBox="1"/>
              <p:nvPr/>
            </p:nvSpPr>
            <p:spPr>
              <a:xfrm>
                <a:off x="1500120" y="5500800"/>
                <a:ext cx="23335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Box 13"/>
          <p:cNvSpPr/>
          <p:nvPr/>
        </p:nvSpPr>
        <p:spPr>
          <a:xfrm>
            <a:off x="357120" y="20718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илиндром здесь зовусь, дру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хне встретите мен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–термос, вкусный торт и све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трюля тёплая на печ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4" descr="http://radugavd.ru/d/63369/d/1409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143080"/>
            <a:ext cx="1428840" cy="2055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http://media.meta.ua/files/pic/0/26/108/mIR6YnZXG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5080" y="1928880"/>
            <a:ext cx="1785960" cy="149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Картинка 22 из 12056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72200" y="4071960"/>
            <a:ext cx="1398600" cy="195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Картинка 62 из 106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71760" y="3357720"/>
            <a:ext cx="2214360" cy="14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Картинка 2 из 9513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29080" y="4643280"/>
            <a:ext cx="178596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1359000" y="291960"/>
            <a:ext cx="6986520" cy="1609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5"/>
              <p:cNvSpPr txBox="1"/>
              <p:nvPr/>
            </p:nvSpPr>
            <p:spPr>
              <a:xfrm>
                <a:off x="3929040" y="5000760"/>
                <a:ext cx="1889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" name="TextBox 16"/>
          <p:cNvSpPr/>
          <p:nvPr/>
        </p:nvSpPr>
        <p:spPr>
          <a:xfrm>
            <a:off x="2000160" y="18572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глобус, апельсин и мяч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круглый шар, я даже чайн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7" descr="http://im5-tub.yandex.net/i?id=57082072&amp;tov=5"/>
          <p:cNvPicPr/>
          <p:nvPr/>
        </p:nvPicPr>
        <p:blipFill>
          <a:blip r:embed="rId2"/>
          <a:stretch/>
        </p:blipFill>
        <p:spPr>
          <a:xfrm>
            <a:off x="1000080" y="4286160"/>
            <a:ext cx="133344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150 из 12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342900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ttp://im0-tub.yandex.net/i?id=61901722&amp;tov=0"/>
          <p:cNvPicPr/>
          <p:nvPr/>
        </p:nvPicPr>
        <p:blipFill>
          <a:blip r:embed="rId5"/>
          <a:stretch/>
        </p:blipFill>
        <p:spPr>
          <a:xfrm>
            <a:off x="714240" y="2571840"/>
            <a:ext cx="1333800" cy="132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Картинка 101 из 125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97720" y="2214720"/>
            <a:ext cx="190332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Картинка 14 из 1048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43800" y="4429080"/>
            <a:ext cx="2143080" cy="16081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2682720" y="334800"/>
            <a:ext cx="3535560" cy="1457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9"/>
              <p:cNvSpPr txBox="1"/>
              <p:nvPr/>
            </p:nvSpPr>
            <p:spPr>
              <a:xfrm>
                <a:off x="5572080" y="4141800"/>
                <a:ext cx="1357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5286240" y="4500720"/>
                <a:ext cx="1949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17"/>
          <p:cNvSpPr/>
          <p:nvPr/>
        </p:nvSpPr>
        <p:spPr>
          <a:xfrm>
            <a:off x="500040" y="185724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ёшь меня легко в в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ёлке, в шляпке у гриб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, конус не стоит в ст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ковка – это тоже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6" descr="http://im4-tub.yandex.net/i?id=44256238&amp;tov=4"/>
          <p:cNvPicPr/>
          <p:nvPr/>
        </p:nvPicPr>
        <p:blipFill>
          <a:blip r:embed="rId2"/>
          <a:stretch/>
        </p:blipFill>
        <p:spPr>
          <a:xfrm>
            <a:off x="1857240" y="47149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im8-tub.yandex.net/i?id=73588947&amp;tov=8"/>
          <p:cNvPicPr/>
          <p:nvPr/>
        </p:nvPicPr>
        <p:blipFill>
          <a:blip r:embed="rId3"/>
          <a:stretch/>
        </p:blipFill>
        <p:spPr>
          <a:xfrm>
            <a:off x="3786120" y="3071880"/>
            <a:ext cx="1143000" cy="151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Картинка 31 из 48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3214800"/>
            <a:ext cx="185760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Картинка 143 из 4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29160" y="20001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Картинка 5 из 700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00960" y="4429080"/>
            <a:ext cx="1206360" cy="1568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34800"/>
            <a:ext cx="8705880" cy="145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Program Files\Microsoft Office\MEDIA\CAGCAT10\j0285360.wmf"/>
          <p:cNvPicPr/>
          <p:nvPr/>
        </p:nvPicPr>
        <p:blipFill>
          <a:blip r:embed="rId2"/>
          <a:stretch/>
        </p:blipFill>
        <p:spPr>
          <a:xfrm>
            <a:off x="307800" y="3357720"/>
            <a:ext cx="1737000" cy="2143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665440" y="5643720"/>
                <a:ext cx="370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3308400" y="5072040"/>
                <a:ext cx="2246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Box 11"/>
          <p:cNvSpPr/>
          <p:nvPr/>
        </p:nvSpPr>
        <p:spPr>
          <a:xfrm>
            <a:off x="1643040" y="1785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водская труба и маяк освещённый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онус совсем не простой – усечённый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Рисунок 11" descr="sea70.gif"/>
          <p:cNvPicPr/>
          <p:nvPr/>
        </p:nvPicPr>
        <p:blipFill>
          <a:blip r:embed="rId3"/>
          <a:stretch/>
        </p:blipFill>
        <p:spPr>
          <a:xfrm>
            <a:off x="7286760" y="2000160"/>
            <a:ext cx="1153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артинка 153 из 4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3071880"/>
            <a:ext cx="1924200" cy="14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артинка 5 из 133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00880" y="4286160"/>
            <a:ext cx="1976400" cy="1482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0722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задача не для робких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яч упаковать в короб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ен плотно он вой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 в пути не растря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j0299763"/>
          <p:cNvPicPr/>
          <p:nvPr/>
        </p:nvPicPr>
        <p:blipFill>
          <a:blip r:embed="rId1"/>
          <a:stretch/>
        </p:blipFill>
        <p:spPr>
          <a:xfrm>
            <a:off x="785880" y="2714760"/>
            <a:ext cx="3097080" cy="25477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4643280" y="2571840"/>
            <a:ext cx="3000600" cy="2643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Рисунок 4" descr="dis16.gif"/>
          <p:cNvPicPr/>
          <p:nvPr/>
        </p:nvPicPr>
        <p:blipFill>
          <a:blip r:embed="rId2"/>
          <a:stretch/>
        </p:blipFill>
        <p:spPr>
          <a:xfrm>
            <a:off x="7286760" y="28584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 в итоге? Посмотри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уб – коробка, мяч – внутр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j0299763"/>
          <p:cNvPicPr/>
          <p:nvPr/>
        </p:nvPicPr>
        <p:blipFill>
          <a:blip r:embed="rId1"/>
          <a:stretch/>
        </p:blipFill>
        <p:spPr>
          <a:xfrm>
            <a:off x="2714760" y="2786040"/>
            <a:ext cx="283824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Куб 4"/>
          <p:cNvSpPr/>
          <p:nvPr/>
        </p:nvSpPr>
        <p:spPr>
          <a:xfrm>
            <a:off x="2928960" y="2643120"/>
            <a:ext cx="2928960" cy="26431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ая соединительная линия 6"/>
          <p:cNvSpPr/>
          <p:nvPr/>
        </p:nvSpPr>
        <p:spPr>
          <a:xfrm flipH="1">
            <a:off x="3569760" y="264312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 flipV="1">
            <a:off x="2928240" y="514368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V="1">
            <a:off x="3142440" y="49287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16"/>
          <p:cNvSpPr/>
          <p:nvPr/>
        </p:nvSpPr>
        <p:spPr>
          <a:xfrm flipH="1" flipV="1">
            <a:off x="5643360" y="464292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ая соединительная линия 18"/>
          <p:cNvSpPr/>
          <p:nvPr/>
        </p:nvSpPr>
        <p:spPr>
          <a:xfrm flipH="1" flipV="1">
            <a:off x="5428800" y="464292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 flipV="1">
            <a:off x="3429000" y="47149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22"/>
          <p:cNvSpPr/>
          <p:nvPr/>
        </p:nvSpPr>
        <p:spPr>
          <a:xfrm flipH="1">
            <a:off x="3569760" y="29289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85840" y="1785960"/>
            <a:ext cx="83581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/0/26/108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mIR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6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YnZXGo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5712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ная литература и Интернет – ресур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48:30Z</dcterms:created>
  <dc:creator>Березайка</dc:creator>
  <dc:description/>
  <dc:language>en-US</dc:language>
  <cp:lastModifiedBy>LEGION</cp:lastModifiedBy>
  <dcterms:modified xsi:type="dcterms:W3CDTF">2015-01-26T12:29:00Z</dcterms:modified>
  <cp:revision>59</cp:revision>
  <dc:subject/>
  <dc:title>Слайд 1</dc:title>
</cp:coreProperties>
</file>